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AE35-7369-4B23-A81A-2970DC57A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CE74-871B-4626-8DD5-3126AB4F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4C68-1C9F-49A2-A6E2-D44078C6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DE65-3A15-4F4D-B3B6-B0709A38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0D09-19B0-440A-8FC2-42321AA1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D183-AB9E-4ACB-A9CC-BCCE96F2D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77CE-D2BF-4261-A80E-CD9B8B07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4528-429F-41B0-A467-260FD9CD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4C25-6ECC-4AD4-9435-5251C4D1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9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3581-028B-4981-85CA-77838139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85EB-606A-4633-B989-80C79F14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136B-623F-42AB-B061-5F34A422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0DE4-D659-4F33-8D1B-4FBA007E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4DC5-89D0-48E1-AD2E-88B8FF54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908C3-BEF4-46FC-98E9-FE96FF2E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B2BE-6D5E-4291-9872-0C1E1EDC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18288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2170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C84F-3C5F-4B3B-BE06-466EC3B3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9A99-CFFB-446C-B23D-373956A0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56A6-4AD7-46EA-AFF8-5E5D9AF22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5E13-BE15-408B-8C34-1257F306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9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FDB2-0012-4FBD-8032-17233E7C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FB6F-E4FE-4067-A1FA-1961B975A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2170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F3C1-1A77-49C0-9C8F-C8907BE9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18288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2170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1233-B631-47DC-8F48-5D0EBE75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34880" y="91764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17560" y="917640"/>
            <a:ext cx="3286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58720" y="133992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38080" y="133992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360" y="1266840"/>
            <a:ext cx="56052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60440" y="160020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5527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BDAD-1214-4F91-A6BA-E4B533E1ED16}" type="slidenum">
              <a:rPr b="0" lang="en-U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4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4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F59F-D64A-425F-BB5E-FA038DAF542B}" type="slidenum">
              <a:rPr b="0" lang="en-US" sz="1400" spc="-1" strike="noStrike">
                <a:solidFill>
                  <a:srgbClr val="000094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Layered Combinator Parsers with a Unique State</a:t>
            </a:r>
            <a:endParaRPr b="0" lang="en-US" sz="40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ieter Koopma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inus Plasmeijer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ijmegen, The Netherland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Requirements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rse state with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rror fi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notion of posi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r-defined extension e.g. symbol tab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ossibility to add separate scanne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fficient implementation,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ontinua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r programming languages we want a single result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deterministic grammar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ter Koop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CC89-BB01-4AA5-92B8-9782ADECF2A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arser Combinators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Uniqueness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les and windows that should be single-threaded are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unique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n Clea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fwritec :: Char *File -&gt; *File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ata-structures can be updated destructively when they are uniqu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ly unique arrays can be chang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ter Koop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0C9D-329D-4F10-A312-745E2A94BEB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arser Combinators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ystem-architecture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place the list of symbols by a structure containi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ctual inpu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osi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error administra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r defined part of the sta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a type constructor class to allow multiple leve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ter Koop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968F-3E37-4BD6-85B0-96097A5171B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arser Combinators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Type constructor class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ading a symbo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ffcc00"/>
                </a:solidFill>
                <a:latin typeface="Courier New"/>
              </a:rPr>
              <a:t>PS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ps s st :: (*ps s *st)-&gt;(s, *ps s *st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pying the state is not allowed,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functions to manipulate the inpu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ffcc00"/>
                </a:solidFill>
                <a:latin typeface="Courier New"/>
              </a:rPr>
              <a:t>PSspli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ps s st :: (s, *ps s *st)-&gt;(s, *ps s *st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ffcc00"/>
                </a:solidFill>
                <a:latin typeface="Courier New"/>
              </a:rPr>
              <a:t>PSback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ps s st :: (s, *ps s *st)-&gt;(s, *ps s *st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ass </a:t>
            </a:r>
            <a:r>
              <a:rPr b="1" lang="en-US" sz="1800" spc="-1" strike="noStrike">
                <a:solidFill>
                  <a:srgbClr val="ffcc00"/>
                </a:solidFill>
                <a:latin typeface="Courier New"/>
              </a:rPr>
              <a:t>PSclea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ps s st :: (s, *ps s *st)-&gt;(s, *ps s *st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inimal parser stat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requires Clean 2.0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lass ParserState ps symbol stat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| PSread, PSsplit, PSback, PSclear ps symbol stat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ter Koop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647A-9B93-4114-B43E-390408E9FC8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arser Combinators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New parser combinators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arsers have three argument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lvl="1" marL="938160" indent="-457200">
              <a:spcBef>
                <a:spcPts val="799"/>
              </a:spcBef>
              <a:buClr>
                <a:srgbClr val="ff3399"/>
              </a:buClr>
              <a:buSzPct val="55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uccess-continuatio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determines action upon succes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938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SuccCont :== Item failCont State -&gt; (Result, State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38160" indent="-457200">
              <a:spcBef>
                <a:spcPts val="799"/>
              </a:spcBef>
              <a:buClr>
                <a:srgbClr val="ff3399"/>
              </a:buClr>
              <a:buSzPct val="55000"/>
              <a:buFont typeface="Comic Sans MS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fail-continuatio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specifies what to do if parser fail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938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FailCont :== State -&gt; (Result, State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38160" indent="-457200">
              <a:spcBef>
                <a:spcPts val="799"/>
              </a:spcBef>
              <a:buClr>
                <a:srgbClr val="ff3399"/>
              </a:buClr>
              <a:buSzPct val="55000"/>
              <a:buFont typeface="Comic Sans MS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urrent input 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ta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938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State :== (Symbol, ParserState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ter Koop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2381-AC2C-421D-9A93-527B8B1F22F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arser Combinators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New parser combinators 2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yield and fail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apply appropriate continu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ield r  = \succ fail tuple = succ r fail tupl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ilComb = \succ fail tuple = fail tupl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quence of pars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hange continuatio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lt;&amp;&gt; p1 p2 = \sc fc t -&gt; </a:t>
            </a:r>
            <a:r>
              <a:rPr b="1" lang="en-US" sz="1800" spc="-1" strike="noStrike">
                <a:solidFill>
                  <a:srgbClr val="ffcc00"/>
                </a:solidFill>
                <a:latin typeface="Courier New"/>
              </a:rPr>
              <a:t>p1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(\a _ -&gt; </a:t>
            </a:r>
            <a:r>
              <a:rPr b="1" lang="en-US" sz="1800" spc="-1" strike="noStrike">
                <a:solidFill>
                  <a:srgbClr val="ffcc00"/>
                </a:solidFill>
                <a:latin typeface="Courier New"/>
              </a:rPr>
              <a:t>p2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a sc fc) fc 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oic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hange continuation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(&lt;|&gt;) p1 p2</a:t>
            </a:r>
            <a:br>
              <a:rPr sz="1800"/>
            </a:b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= \succ fail tuple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=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nl-NL" sz="1800" spc="-1" strike="noStrike">
                <a:solidFill>
                  <a:srgbClr val="ffcc00"/>
                </a:solidFill>
                <a:latin typeface="Courier New"/>
              </a:rPr>
              <a:t>p1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 (\r f 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succ r fail (PSclear t))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(\t2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=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nl-NL" sz="1800" spc="-1" strike="noStrike">
                <a:solidFill>
                  <a:srgbClr val="ffcc00"/>
                </a:solidFill>
                <a:latin typeface="Courier New"/>
              </a:rPr>
              <a:t>p2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 succ fail (PSback t2))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(PSsplit tuple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ter Koop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969D-E373-44FB-A3FD-5BAAD019D1A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arser Combinators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9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tring input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 very simple instance of ParserSta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ourier New"/>
              </a:rPr>
              <a:t>:: *StringInput symbol state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=   </a:t>
            </a:r>
            <a:r>
              <a:rPr b="1" lang="nl-NL" sz="1600" spc="-1" strike="noStrike">
                <a:solidFill>
                  <a:srgbClr val="ffffff"/>
                </a:solidFill>
                <a:latin typeface="Courier New"/>
              </a:rPr>
              <a:t>{ si_string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nl-NL" sz="1600" spc="-1" strike="noStrike">
                <a:solidFill>
                  <a:srgbClr val="ffffff"/>
                </a:solidFill>
                <a:latin typeface="Courier New"/>
              </a:rPr>
              <a:t>:: </a:t>
            </a:r>
            <a:r>
              <a:rPr b="1" lang="nl-NL" sz="1600" spc="-1" strike="noStrike">
                <a:solidFill>
                  <a:srgbClr val="ffcc00"/>
                </a:solidFill>
                <a:latin typeface="Courier New"/>
              </a:rPr>
              <a:t>String</a:t>
            </a:r>
            <a:r>
              <a:rPr b="1" lang="nl-NL" sz="1600" spc="-1" strike="noStrike">
                <a:solidFill>
                  <a:srgbClr val="ffffff"/>
                </a:solidFill>
                <a:latin typeface="Courier New"/>
              </a:rPr>
              <a:t>     // </a:t>
            </a:r>
            <a:r>
              <a:rPr b="1" lang="nl-NL" sz="1600" spc="-1" strike="noStrike">
                <a:solidFill>
                  <a:srgbClr val="ffffff"/>
                </a:solidFill>
                <a:latin typeface="Arial"/>
              </a:rPr>
              <a:t>string holds inpu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nl-NL" sz="1600" spc="-1" strike="noStrike">
                <a:solidFill>
                  <a:srgbClr val="ffffff"/>
                </a:solidFill>
                <a:latin typeface="Courier New"/>
              </a:rPr>
              <a:t>, si_pos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nl-NL" sz="1600" spc="-1" strike="noStrike">
                <a:solidFill>
                  <a:srgbClr val="ffffff"/>
                </a:solidFill>
                <a:latin typeface="Courier New"/>
              </a:rPr>
              <a:t>:: </a:t>
            </a:r>
            <a:r>
              <a:rPr b="1" lang="nl-NL" sz="1600" spc="-1" strike="noStrike">
                <a:solidFill>
                  <a:srgbClr val="ffcc00"/>
                </a:solidFill>
                <a:latin typeface="Courier New"/>
              </a:rPr>
              <a:t>Int</a:t>
            </a:r>
            <a:r>
              <a:rPr b="1" lang="nl-NL" sz="1600" spc="-1" strike="noStrike">
                <a:solidFill>
                  <a:srgbClr val="ffffff"/>
                </a:solidFill>
                <a:latin typeface="Courier New"/>
              </a:rPr>
              <a:t>        // </a:t>
            </a:r>
            <a:r>
              <a:rPr b="1" lang="nl-NL" sz="1600" spc="-1" strike="noStrike">
                <a:solidFill>
                  <a:srgbClr val="ffffff"/>
                </a:solidFill>
                <a:latin typeface="Arial"/>
              </a:rPr>
              <a:t>index of current char</a:t>
            </a:r>
            <a:r>
              <a:rPr b="1" lang="nl-NL" sz="1600" spc="-1" strike="noStrike">
                <a:solidFill>
                  <a:srgbClr val="ffffff"/>
                </a:solidFill>
                <a:latin typeface="Courier New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nl-NL" sz="1600" spc="-1" strike="noStrike">
                <a:solidFill>
                  <a:srgbClr val="ffffff"/>
                </a:solidFill>
                <a:latin typeface="Courier New"/>
              </a:rPr>
              <a:t>, si_hist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nl-NL" sz="1600" spc="-1" strike="noStrike">
                <a:solidFill>
                  <a:srgbClr val="ffffff"/>
                </a:solidFill>
                <a:latin typeface="Courier New"/>
              </a:rPr>
              <a:t>:: [Int]      // </a:t>
            </a:r>
            <a:r>
              <a:rPr b="1" lang="nl-NL" sz="1600" spc="-1" strike="noStrike">
                <a:solidFill>
                  <a:srgbClr val="ffffff"/>
                </a:solidFill>
                <a:latin typeface="Arial"/>
              </a:rPr>
              <a:t>to remember old position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nl-NL" sz="1600" spc="-1" strike="noStrike">
                <a:solidFill>
                  <a:srgbClr val="ffffff"/>
                </a:solidFill>
                <a:latin typeface="Courier New"/>
              </a:rPr>
              <a:t>, si_state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nl-NL" sz="1600" spc="-1" strike="noStrike">
                <a:solidFill>
                  <a:srgbClr val="ffffff"/>
                </a:solidFill>
                <a:latin typeface="Courier New"/>
              </a:rPr>
              <a:t>:: state      // </a:t>
            </a:r>
            <a:r>
              <a:rPr b="1" lang="nl-NL" sz="1600" spc="-1" strike="noStrike">
                <a:solidFill>
                  <a:srgbClr val="ffffff"/>
                </a:solidFill>
                <a:latin typeface="Arial"/>
              </a:rPr>
              <a:t>user-defined extension</a:t>
            </a:r>
            <a:r>
              <a:rPr b="1" lang="nl-NL" sz="1600" spc="-1" strike="noStrike">
                <a:solidFill>
                  <a:srgbClr val="ffffff"/>
                </a:solidFill>
                <a:latin typeface="Courier New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, si_error  :: ErrorStat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nl-NL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ourier New"/>
              </a:rPr>
              <a:t>instance PSread StringInput Char state</a:t>
            </a:r>
            <a:br>
              <a:rPr sz="1600"/>
            </a:br>
            <a:r>
              <a:rPr b="1" lang="nl-NL" sz="1600" spc="-1" strike="noStrike">
                <a:solidFill>
                  <a:srgbClr val="ffffff"/>
                </a:solidFill>
                <a:latin typeface="Courier New"/>
              </a:rPr>
              <a:t>where PSread si=:{si_string,si_pos}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nl-NL" sz="1600" spc="-1" strike="noStrike">
                <a:solidFill>
                  <a:srgbClr val="ffffff"/>
                </a:solidFill>
                <a:latin typeface="Courier New"/>
              </a:rPr>
              <a:t>= (si_string.[si_pos],{si &amp; si_pos = si_pos+1}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ourier New"/>
              </a:rPr>
              <a:t>instance PSsplit StringInput Char state</a:t>
            </a:r>
            <a:br>
              <a:rPr sz="1600"/>
            </a:br>
            <a:r>
              <a:rPr b="1" lang="nl-NL" sz="1600" spc="-1" strike="noStrike">
                <a:solidFill>
                  <a:srgbClr val="ffffff"/>
                </a:solidFill>
                <a:latin typeface="Courier New"/>
              </a:rPr>
              <a:t>where PSsplit (c,si=:{si_pos,si_hist})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nl-NL" sz="1600" spc="-1" strike="noStrike">
                <a:solidFill>
                  <a:srgbClr val="ffffff"/>
                </a:solidFill>
                <a:latin typeface="Courier New"/>
              </a:rPr>
              <a:t>= (c,{si &amp; si_hist = [si_pos:si_hist]}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ffffff"/>
                </a:solidFill>
                <a:latin typeface="Courier New"/>
              </a:rPr>
              <a:t>instance PSback StringInput Char state</a:t>
            </a:r>
            <a:br>
              <a:rPr sz="1600"/>
            </a:br>
            <a:r>
              <a:rPr b="1" lang="nl-NL" sz="1600" spc="-1" strike="noStrike">
                <a:solidFill>
                  <a:srgbClr val="ffffff"/>
                </a:solidFill>
                <a:latin typeface="Courier New"/>
              </a:rPr>
              <a:t>where PSback (_,si=:{si_string,si_hist=[h:t]})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nl-NL" sz="1600" spc="-1" strike="noStrike">
                <a:solidFill>
                  <a:srgbClr val="ffffff"/>
                </a:solidFill>
                <a:latin typeface="Courier New"/>
              </a:rPr>
              <a:t>= (si_string.[h-1],{si &amp; si_pos = h, si_hist = t}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ter Koop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64E5-9DA6-4C8F-9C90-5311A02956C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arser Combinators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Separate scanner and parser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ometimes it is convenient to have a separate scanner</a:t>
            </a:r>
            <a:br>
              <a:rPr sz="3200"/>
            </a:b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e.g. to implement the offside ru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ask of scanner and parser is similar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o, use the same combinato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ue to the type constructor class we can nest parser stat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ter Koop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8CD1-6683-4350-80D5-445DAA05A81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arser Combinators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a simple scanner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of combinators doesn’t chang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63560" indent="-28584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roduces tokens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algebraic datatype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scanner</a:t>
            </a:r>
            <a:br>
              <a:rPr sz="1800"/>
            </a:b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 = skipSpace +&gt;</a:t>
            </a:r>
            <a:br>
              <a:rPr sz="1800"/>
            </a:b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   (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nl-NL" sz="1800" spc="-1" strike="noStrike">
                <a:solidFill>
                  <a:srgbClr val="ffcc00"/>
                </a:solidFill>
                <a:latin typeface="Courier New"/>
              </a:rPr>
              <a:t>generateOffsideToke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&lt;|&gt; 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satisfy isAlpha</a:t>
            </a:r>
            <a:br>
              <a:rPr sz="1800"/>
            </a:b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       &lt;:&gt; star (satisfy isAlphanum)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        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&lt;@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estR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eserved o toString</a:t>
            </a:r>
            <a:br>
              <a:rPr sz="1800"/>
            </a:b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   &lt;|&gt; plus (satisfy isDigit)&lt;@ IntToken o to_number 0</a:t>
            </a:r>
            <a:br>
              <a:rPr sz="1800"/>
            </a:b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   &lt;|&gt; symbol '='            &lt;@ K EqualToken</a:t>
            </a:r>
            <a:br>
              <a:rPr sz="1800"/>
            </a:b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   &lt;|&gt; symbol '('            &lt;@ K OpenToken</a:t>
            </a:r>
            <a:br>
              <a:rPr sz="1800"/>
            </a:b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   &lt;|&gt; symbol ')'            &lt;@ K CloseToken</a:t>
            </a:r>
            <a:br>
              <a:rPr sz="1800"/>
            </a:b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   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ter Koop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04FF-6139-489B-A058-5CF8364C8C4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arser Combinators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generating offside tokens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se an ordinary parse func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generateOffsideToke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= pAcc getCol     &lt;&amp;&gt; \col    -&gt; </a:t>
            </a:r>
            <a:r>
              <a:rPr b="1" lang="nl-NL" sz="1600" spc="-1" strike="noStrike">
                <a:solidFill>
                  <a:srgbClr val="ffcc00"/>
                </a:solidFill>
                <a:latin typeface="Courier New"/>
              </a:rPr>
              <a:t>// </a:t>
            </a:r>
            <a:r>
              <a:rPr b="1" lang="nl-NL" sz="1600" spc="-1" strike="noStrike">
                <a:solidFill>
                  <a:srgbClr val="ffcc00"/>
                </a:solidFill>
                <a:latin typeface="Arial"/>
              </a:rPr>
              <a:t>get current coloum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pAcc getOffside &lt;&amp;&gt; \os_col -&gt; </a:t>
            </a:r>
            <a:r>
              <a:rPr b="1" lang="nl-NL" sz="1600" spc="-1" strike="noStrike">
                <a:solidFill>
                  <a:srgbClr val="ffcc00"/>
                </a:solidFill>
                <a:latin typeface="Courier New"/>
              </a:rPr>
              <a:t>// </a:t>
            </a:r>
            <a:r>
              <a:rPr b="1" lang="nl-NL" sz="1600" spc="-1" strike="noStrike">
                <a:solidFill>
                  <a:srgbClr val="ffcc00"/>
                </a:solidFill>
                <a:latin typeface="Arial"/>
              </a:rPr>
              <a:t>get offside position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handleOS col os_co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handleOS col os_co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| EndGroupGenerated os_co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| col &lt; os_co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= pApp popOffside (yield EndOfGroupToken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              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= pApp ClearEndGroup failComb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| col &lt;= os_col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= pApp SetEndGroup (yield EndOfDefToken)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= failComb</a:t>
            </a: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ter Koop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8C91-B776-4883-830F-552DC9E08BA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arser Combinators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Overview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nventional parser combinato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quirements new combinato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ystem-architectu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ew parser combinato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parate scanner and parse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error handling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ter Koop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23C0-2872-4E00-9AB7-9AE813AD733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arser Combinators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arser state for nesting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rser state contains scanner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and its sta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:: *NestedInput token stat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= E.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.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ps sym sca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tate: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{ </a:t>
            </a:r>
            <a:r>
              <a:rPr b="1" lang="nl-NL" sz="1800" spc="-1" strike="noStrike">
                <a:solidFill>
                  <a:srgbClr val="ffcc00"/>
                </a:solidFill>
                <a:latin typeface="Courier New"/>
              </a:rPr>
              <a:t>ni_</a:t>
            </a:r>
            <a:r>
              <a:rPr b="1" lang="en-US" sz="1800" spc="-1" strike="noStrike">
                <a:solidFill>
                  <a:srgbClr val="ffcc00"/>
                </a:solidFill>
                <a:latin typeface="Courier New"/>
              </a:rPr>
              <a:t>scanSt  </a:t>
            </a:r>
            <a:r>
              <a:rPr b="1" lang="nl-NL" sz="1800" spc="-1" strike="noStrike">
                <a:solidFill>
                  <a:srgbClr val="ffcc00"/>
                </a:solidFill>
                <a:latin typeface="Courier New"/>
              </a:rPr>
              <a:t>:: (ps sym scan</a:t>
            </a:r>
            <a:r>
              <a:rPr b="1" lang="en-US" sz="1800" spc="-1" strike="noStrike">
                <a:solidFill>
                  <a:srgbClr val="ffcc00"/>
                </a:solidFill>
                <a:latin typeface="Courier New"/>
              </a:rPr>
              <a:t>S</a:t>
            </a:r>
            <a:r>
              <a:rPr b="1" lang="nl-NL" sz="1800" spc="-1" strike="noStrike">
                <a:solidFill>
                  <a:srgbClr val="ffcc00"/>
                </a:solidFill>
                <a:latin typeface="Courier New"/>
              </a:rPr>
              <a:t>tate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, </a:t>
            </a:r>
            <a:r>
              <a:rPr b="1" lang="nl-NL" sz="1800" spc="-1" strike="noStrike">
                <a:solidFill>
                  <a:srgbClr val="ffcc00"/>
                </a:solidFill>
                <a:latin typeface="Courier New"/>
              </a:rPr>
              <a:t>ni_scanner :: (ps sym scan</a:t>
            </a:r>
            <a:r>
              <a:rPr b="1" lang="en-US" sz="1800" spc="-1" strike="noStrike">
                <a:solidFill>
                  <a:srgbClr val="ffcc00"/>
                </a:solidFill>
                <a:latin typeface="Courier New"/>
              </a:rPr>
              <a:t>S</a:t>
            </a:r>
            <a:r>
              <a:rPr b="1" lang="nl-NL" sz="1800" spc="-1" strike="noStrike">
                <a:solidFill>
                  <a:srgbClr val="ffcc00"/>
                </a:solidFill>
                <a:latin typeface="Courier New"/>
              </a:rPr>
              <a:t>tate) -&gt;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Courier New"/>
              </a:rPr>
              <a:t>                    </a:t>
            </a:r>
            <a:r>
              <a:rPr b="1" lang="nl-NL" sz="1800" spc="-1" strike="noStrike">
                <a:solidFill>
                  <a:srgbClr val="ffcc00"/>
                </a:solidFill>
                <a:latin typeface="Courier New"/>
              </a:rPr>
              <a:t>*(token,</a:t>
            </a:r>
            <a:r>
              <a:rPr b="1" lang="en-US" sz="1800" spc="-1" strike="noStrike">
                <a:solidFill>
                  <a:srgbClr val="ffcc00"/>
                </a:solidFill>
                <a:latin typeface="Courier New"/>
              </a:rPr>
              <a:t> </a:t>
            </a:r>
            <a:r>
              <a:rPr b="1" lang="nl-NL" sz="1800" spc="-1" strike="noStrike">
                <a:solidFill>
                  <a:srgbClr val="ffcc00"/>
                </a:solidFill>
                <a:latin typeface="Courier New"/>
              </a:rPr>
              <a:t>ps sym scan</a:t>
            </a:r>
            <a:r>
              <a:rPr b="1" lang="en-US" sz="1800" spc="-1" strike="noStrike">
                <a:solidFill>
                  <a:srgbClr val="ffcc00"/>
                </a:solidFill>
                <a:latin typeface="Courier New"/>
              </a:rPr>
              <a:t>S</a:t>
            </a:r>
            <a:r>
              <a:rPr b="1" lang="nl-NL" sz="1800" spc="-1" strike="noStrike">
                <a:solidFill>
                  <a:srgbClr val="ffcc00"/>
                </a:solidFill>
                <a:latin typeface="Courier New"/>
              </a:rPr>
              <a:t>tate)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, ni_buffer  :: [token]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, ni_history :: [[token]]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, ni_state   :: stat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48080" indent="-280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an be nested to any depth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8080" indent="-280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e can, but doesn’t have to, use thi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ter Koop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603C-B07A-4CD4-9824-8A451DF10B1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arser Combinators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arser state for nesting 2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1981080"/>
            <a:ext cx="7315200" cy="4191120"/>
          </a:xfrm>
          <a:prstGeom prst="rect">
            <a:avLst/>
          </a:prstGeom>
          <a:solidFill>
            <a:srgbClr val="3193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316880" y="205740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Nested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7920" y="2590920"/>
            <a:ext cx="6629400" cy="1981080"/>
          </a:xfrm>
          <a:prstGeom prst="rect">
            <a:avLst/>
          </a:prstGeom>
          <a:solidFill>
            <a:srgbClr val="ffcc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2743200"/>
            <a:ext cx="3581280" cy="533520"/>
          </a:xfrm>
          <a:prstGeom prst="rect">
            <a:avLst/>
          </a:prstGeom>
          <a:solidFill>
            <a:srgbClr val="00009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19720" y="3352680"/>
            <a:ext cx="3581280" cy="533520"/>
          </a:xfrm>
          <a:prstGeom prst="rect">
            <a:avLst/>
          </a:prstGeom>
          <a:solidFill>
            <a:srgbClr val="00009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Error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3962520"/>
            <a:ext cx="3581280" cy="533160"/>
          </a:xfrm>
          <a:prstGeom prst="rect">
            <a:avLst/>
          </a:prstGeom>
          <a:solidFill>
            <a:srgbClr val="000094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Offside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51680" y="27432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canSt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19720" y="4724280"/>
            <a:ext cx="35812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cann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19720" y="5486400"/>
            <a:ext cx="3581280" cy="53352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*Hash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ter Koop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D5AF-E7A2-428D-9AB9-91E60AACA3D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arser Combinators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arser state for nesting 3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pply scanner to read toke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instance PSread NestedState token stat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wher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PSread ns=:{ns_scanner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ns_scanSt}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# (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ok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state) = ns_scanner ns_scanS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= (t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ok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{ns &amp; ns_scanSt = state}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76356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re, we ignored the buff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fine instances for other function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 in class ParserSta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ter Koop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BA2F-DC6C-4F59-B1CC-C73A9650F2A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arser Combinators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Comic Sans MS"/>
              </a:rPr>
              <a:t>error handling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8040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neral error correction is difficul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rrect simple erro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kip to new definition otherwis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ood error messages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cation: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position in fi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what are we parsing: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Comic Sans MS"/>
              </a:rPr>
              <a:t>stack of context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Error [t.icl,20,[caseAlt,Exp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ression</a:t>
            </a:r>
            <a:r>
              <a:rPr b="1" lang="en-GB" sz="2000" spc="-1" strike="noStrike">
                <a:solidFill>
                  <a:srgbClr val="ffcc00"/>
                </a:solidFill>
                <a:latin typeface="Arial"/>
                <a:ea typeface="Times New Roman"/>
              </a:rPr>
              <a:t>]]: ) expected instead of =</a:t>
            </a:r>
            <a:r>
              <a:rPr b="1" lang="nl-NL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ter Koop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E494-AFD9-42E8-98C0-D231C14F8FB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arser Combinators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error handling 2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asic error genera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parseError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expected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 va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= \succ fail (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,ps)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et msg = toString expected 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+++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" expected instead of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" 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+++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toString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in  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succ val fai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(PSerror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msg 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(PSread ps)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ful primitiv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antSymbol sym = symbol sym &lt;|&gt; parseError sym sym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want p msg value = p &lt;|&gt; parseError msg value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kipToSymbol sy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=     symbol sy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&lt;|&gt; parseError sym sy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+&gt; star (satisfy ((&lt;&gt;) sym)) +&gt; symbol sym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ter Koop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C016-AE81-47C5-AD8C-12D50B3841B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arser Combinators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arser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arsing express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pExpression</a:t>
            </a:r>
            <a:br>
              <a:rPr sz="1800"/>
            </a:br>
            <a:r>
              <a:rPr b="1" lang="nl-NL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=  "Expression" </a:t>
            </a:r>
            <a:r>
              <a:rPr b="1" lang="nl-NL" sz="1800" spc="-1" strike="noStrike">
                <a:solidFill>
                  <a:srgbClr val="ffcc00"/>
                </a:solidFill>
                <a:latin typeface="Courier New"/>
                <a:ea typeface="Times New Roman"/>
              </a:rPr>
              <a:t>::&gt;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br>
              <a:rPr sz="1800"/>
            </a:br>
            <a:r>
              <a:rPr b="1" lang="nl-NL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BV @&gt; 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match mBasicValue</a:t>
            </a:r>
            <a:br>
              <a:rPr sz="1800"/>
            </a:br>
            <a:r>
              <a:rPr b="1" lang="nl-NL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&lt;|&gt; pIdentifier</a:t>
            </a:r>
            <a:br>
              <a:rPr sz="1800"/>
            </a:br>
            <a:r>
              <a:rPr b="1" lang="nl-NL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&lt;|&gt;     symbol CaseToken</a:t>
            </a:r>
            <a:br>
              <a:rPr sz="1800"/>
            </a:br>
            <a:r>
              <a:rPr b="1" lang="nl-NL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    +&gt;  </a:t>
            </a:r>
            <a:r>
              <a:rPr b="1" lang="en-US" sz="1800" spc="-1" strike="noStrike">
                <a:solidFill>
                  <a:srgbClr val="ffcc00"/>
                </a:solidFill>
                <a:latin typeface="Courier New"/>
                <a:ea typeface="Times New Roman"/>
              </a:rPr>
              <a:t>pDete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Case</a:t>
            </a:r>
            <a:br>
              <a:rPr sz="1800"/>
            </a:br>
            <a:r>
              <a:rPr b="1" lang="nl-NL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    @&gt;  pCompoundExpression</a:t>
            </a:r>
            <a:br>
              <a:rPr sz="1800"/>
            </a:br>
            <a:r>
              <a:rPr b="1" lang="nl-NL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    &lt;+  wantSymbol OfToken</a:t>
            </a:r>
            <a:br>
              <a:rPr sz="1800"/>
            </a:br>
            <a:r>
              <a:rPr b="1" lang="nl-NL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    &lt;+&gt; star pCaseAlt</a:t>
            </a:r>
            <a:br>
              <a:rPr sz="1800"/>
            </a:br>
            <a:r>
              <a:rPr b="1" lang="nl-NL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    &lt;+  </a:t>
            </a:r>
            <a:r>
              <a:rPr b="1" lang="nl-NL" sz="1800" spc="-1" strike="noStrike">
                <a:solidFill>
                  <a:srgbClr val="ffcc00"/>
                </a:solidFill>
                <a:latin typeface="Courier New"/>
                <a:ea typeface="Times New Roman"/>
              </a:rPr>
              <a:t>skipToSymbol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EndOfGroupToke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&lt;|&gt; symbol OpenToken +&gt; pCompoundExpress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                     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&lt;+ </a:t>
            </a:r>
            <a:r>
              <a:rPr b="1" lang="en-US" sz="1800" spc="-1" strike="noStrike">
                <a:solidFill>
                  <a:srgbClr val="ffcc00"/>
                </a:solidFill>
                <a:latin typeface="Courier New"/>
                <a:ea typeface="Times New Roman"/>
              </a:rPr>
              <a:t>wantS</a:t>
            </a:r>
            <a:r>
              <a:rPr b="1" lang="nl-NL" sz="1800" spc="-1" strike="noStrike">
                <a:solidFill>
                  <a:srgbClr val="ffcc00"/>
                </a:solidFill>
                <a:latin typeface="Courier New"/>
                <a:ea typeface="Times New Roman"/>
              </a:rPr>
              <a:t>ymbol</a:t>
            </a:r>
            <a:r>
              <a:rPr b="1" lang="nl-NL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CloseToken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ter Koop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03FD-FE9D-4FB8-BFE1-3DA63D2F746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arser Combinators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identifiers in hashtable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a parse-function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hashtable is user defined state in ParserSta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pIdentifier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=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match mIdentToken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&amp;&gt; \ident =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ffcc00"/>
                </a:solidFill>
                <a:latin typeface="Courier New"/>
              </a:rPr>
              <a:t>pAccSt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(putNameInHashTable ident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@  \nam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=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{app_symb=UnknownSymbol name, app_args=[]}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e function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cSt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applies a function to the user defined sta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ter Koop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01E4-5B44-485B-9087-9D10E509033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arser Combinators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limitations of this approach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yntax specified by parse functions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grammar is not a datastructur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o detection of left recursion</a:t>
            </a: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untime error instead of nice message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no automatic left-factoring</a:t>
            </a:r>
            <a:br>
              <a:rPr sz="32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o it by hand, or runtime overhead</a:t>
            </a:r>
            <a:br>
              <a:rPr sz="2800"/>
            </a:b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1 = </a:t>
            </a:r>
            <a:r>
              <a:rPr b="1" lang="en-US" sz="2000" spc="-1" strike="noStrike">
                <a:solidFill>
                  <a:srgbClr val="ffcc00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&lt;&amp;&gt; q1 &lt;|&gt; </a:t>
            </a:r>
            <a:r>
              <a:rPr b="1" lang="en-US" sz="2000" spc="-1" strike="noStrike">
                <a:solidFill>
                  <a:srgbClr val="ffcc00"/>
                </a:solidFill>
                <a:latin typeface="Courier New"/>
              </a:rPr>
              <a:t>p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&lt;&amp;&gt; q2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2 = p &lt;&amp;&gt; (q1 &lt;|&gt; q2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ter Koop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6C57-ABE4-4A27-842F-702781C43C1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arser Combinators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omic Sans MS"/>
              </a:rPr>
              <a:t>discussion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ld advantag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concise, fpl-power, arbitrary look ahead, context sensitv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ew advantage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unique and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extendable parser stat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one or more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layer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decent </a:t>
            </a: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error handling,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Comic Sans MS"/>
              </a:rPr>
              <a:t>simple error correction can be adde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till </a:t>
            </a:r>
            <a:r>
              <a:rPr b="0" lang="en-US" sz="3200" spc="-1" strike="noStrike">
                <a:solidFill>
                  <a:srgbClr val="ffffcc"/>
                </a:solidFill>
                <a:latin typeface="Comic Sans MS"/>
              </a:rPr>
              <a:t>efficien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overhead &lt; 2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on-determinism only when neede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ter Koop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E56B-DCDB-4031-A56C-E15D5CDDED3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arser Combinators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arser combinators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on deterministic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list of result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:: Parser      s r :== [s] -&gt;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[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ParseResult s r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]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:: ParseResult s r :== ([s],r)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ail &amp; yiel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fail    = \ss = []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yield r = \ss = [(ss,r)]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recognize symbo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satisfy :: (s-&gt;Bool) -&gt; Parser s s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satisfy f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= p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where p [s:ss] |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f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s = [(ss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s)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]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 p _            = []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symbol sym :== satisfy ((==) sym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ter Koop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2B5F-315C-4CA1-BE91-980C5BFF8B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arser Combinators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arser combinators 2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quence-combinato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(&lt;&amp;&gt;) infixr 6::(Parser s r)(r-&gt;Parser s t)-&gt;Parser s t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(&lt;&amp;&gt;) p1 p2 = \ss1 = [  tuple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                 \\ (ss2,r1) &lt;- p1 ss1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                 ,  tuple    &lt;- p2 r1 ss2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                 ]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&lt;+&gt;)infixl 6::(Parser s(r-&gt;t))(Parser s r)-&gt;Parser s 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(&lt;+&gt;) p1 p2 = \ss1 = [  (ss3,f r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\\ (ss2,f) &lt;- p1 ss1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,  (ss3,r) &lt;- p2 ss2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hoose-combinato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(&lt;||&gt;) infixr 4::(Parser s r) (Parser s r)-&gt;Parser s r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(&lt;||&gt;) p1 p2 = \ss = p1 ss ++ p2 ss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ter Koop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06D0-D20F-4E11-876F-ECF73193547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arser Combinators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arser combinators 3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ome useful abbreviation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@&gt;) infixr 7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@&gt;) f p :== yield f &lt;+&gt; p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&lt;:&gt;) infixl 6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(&lt;:&gt;) p1 p2 :== (\h t=[h:t]) @&gt; p1 &lt;+&gt; p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ter Koop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C309-6ED9-422E-A855-C97E48D497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arser Combinators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arser combinators 4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leene sta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star p =      p &lt;:&gt; star p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||&gt; yield []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plus p = p &lt;:&gt; star p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parsing an identifier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dentifier :: Parser Char String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identifier =     toString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     @&gt;  satisfy isAlpha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:&gt; star (satisfy isAlphanum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ter Koop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2B67-E678-4B06-9D5D-3394D4AA06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arser Combinators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arser combinators 5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ntext sensitive parse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63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ice the same charac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doubleChar = satisfy isAlpha &lt;&amp;&gt; \c -&gt;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ymbol c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bitrary look ahea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Ahead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=      symbol 'a' +&gt; symbol 'b'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&lt;||&gt; symbol 'a' +&gt; symbol 'c'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ter Koop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B748-CADE-4D83-82A0-1FEDEE74DA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arser Combinators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arser combinators 5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ontext sensitive parsers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63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ice the same character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Courier New"/>
              </a:rPr>
              <a:t>doubleChar = satisfy isAlpha &lt;&amp;&gt; \c -&gt;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ymbol c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bitrary look ahead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lookAhead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=      symbol 'a' +&gt; symbol 'b'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&lt;||&gt; symbol 'a' +&gt; symbol 'c'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&lt;||&gt; star (satisfy isSpace) +&gt; symbol 'a'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&lt;||&gt; symbol 'x'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ter Koop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9A67-DA20-46AB-B9E5-DDFFED48669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arser Combinators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Comic Sans MS"/>
              </a:rPr>
              <a:t>properties of combinators</a:t>
            </a:r>
            <a:endParaRPr b="0" lang="en-US" sz="4400" spc="-1" strike="noStrike">
              <a:solidFill>
                <a:srgbClr val="ffffcc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+ concise and clear parser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+ full power of fpl available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+ context sensitive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+ arbitrary look-ahead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+ can be efficient,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continuations IFL '9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no error handling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(messages &amp; recovery)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no unique symbol table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- separate scanner yields problems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omic Sans MS"/>
              </a:rPr>
              <a:t>scan entire file before parser start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ieter Koopma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8EC8-09DB-4596-BCAE-E3736363954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Parser Combinators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08:20:52Z</dcterms:created>
  <dc:creator>Koopman</dc:creator>
  <dc:description/>
  <dc:language>en-US</dc:language>
  <cp:lastModifiedBy>Pieter</cp:lastModifiedBy>
  <dcterms:modified xsi:type="dcterms:W3CDTF">2001-10-02T10:25:32Z</dcterms:modified>
  <cp:revision>114</cp:revision>
  <dc:subject/>
  <dc:title>Layered Combinator parsers with a Unique state</dc:title>
</cp:coreProperties>
</file>